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4FDB-3137-4751-BCE4-D17C021DA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27F0-B3F0-4A83-ADE1-04416E754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CB12-59A4-47C3-A90F-A6DF0A437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AD16-62F1-4A05-BCC7-910E7B25C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5CD2-9B40-4486-B51B-BD0746C9A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8B71-1EA0-45F5-9CB7-0525619C3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7359-6A7D-47B7-A6E2-208E09A1E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D769-D682-4D20-B9D9-DAB96222D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ABE6-0161-4757-B2C4-9B72AFA4D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828A-4731-45DC-9095-251C89B0E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7404-B106-44C8-93A6-82C79C950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144D-506C-4047-A4A4-1263D1DEF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E2742-6FE2-45B4-A72C-D06A7F18FDF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STRATEGIA DE COMUNICACIÓN</a:t>
            </a:r>
            <a:br>
              <a:rPr sz="4400"/>
            </a:b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GRAN CONCIERTO NACIONAL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5 Imagen" descr="300x250banner 2.JPG"/>
          <p:cNvPicPr/>
          <p:nvPr/>
        </p:nvPicPr>
        <p:blipFill>
          <a:blip r:embed="rId1"/>
          <a:stretch/>
        </p:blipFill>
        <p:spPr>
          <a:xfrm>
            <a:off x="3143160" y="4143240"/>
            <a:ext cx="285768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0000"/>
                </a:solidFill>
                <a:latin typeface="Arial"/>
              </a:rPr>
              <a:t>NUEVO MENSA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35720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ff0000"/>
                </a:solidFill>
                <a:latin typeface="Arial"/>
              </a:rPr>
              <a:t>COLOMBIA, COLOMBIA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ff0000"/>
                </a:solidFill>
                <a:latin typeface="Arial"/>
              </a:rPr>
              <a:t>UNA PREGUNTA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ff0000"/>
                </a:solidFill>
                <a:latin typeface="Arial"/>
              </a:rPr>
              <a:t>MILLONES DE RESPUESTA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000000"/>
                </a:solidFill>
                <a:latin typeface="Arial"/>
              </a:rPr>
              <a:t>-¿Qué nos une? ¿Qué nos hace ser lo que somo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000000"/>
                </a:solidFill>
                <a:latin typeface="Arial"/>
              </a:rPr>
              <a:t>Esta campaña publicitaria inicia en Mayo y sigue con el Gran Concierto Nacional. A partir de junio los músicos colombianos llevarán el mensaj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000000"/>
                </a:solidFill>
                <a:latin typeface="Arial"/>
              </a:rPr>
              <a:t>Preguntas recogidas en mensajes de un minuto, de 30 segundos, para insertar en la programación de televisión cultural, regional, nacional, y en las radi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ff0000"/>
                </a:solidFill>
                <a:latin typeface="Arial"/>
              </a:rPr>
              <a:t>Colombia, Colombias </a:t>
            </a:r>
            <a:r>
              <a:rPr b="1" lang="es-CO" sz="1400" spc="-1" strike="noStrike">
                <a:solidFill>
                  <a:srgbClr val="000000"/>
                </a:solidFill>
                <a:latin typeface="Arial"/>
              </a:rPr>
              <a:t>porque t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enemos unos puntos constantes que nos dan la sensación de identidad, pero si reflexionamos un poco nos damos cuenta de que hemos sido y somos muchos, al tiempo que somos uno, un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Esta campaña se hace bajo el concepto de Ángel Becassino, con la producción (diseño, comerciales y cuñas de radio de La Estació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Se quitan las bolitas del GCN y se define un diseño gráfico bajo este concepto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115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s-ES" sz="4000" spc="-1" strike="noStrike">
                <a:solidFill>
                  <a:srgbClr val="ff0000"/>
                </a:solidFill>
                <a:latin typeface="Arial"/>
              </a:rPr>
              <a:t>FASE 1: EXPECTATIVA</a:t>
            </a:r>
            <a:br>
              <a:rPr sz="4000"/>
            </a:br>
            <a:r>
              <a:rPr b="1" lang="es-ES" sz="4000" spc="-1" strike="noStrike">
                <a:solidFill>
                  <a:srgbClr val="ff0000"/>
                </a:solidFill>
                <a:latin typeface="Arial"/>
              </a:rPr>
              <a:t>Desde el mes de marz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11504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22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ESTRATEGIAS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2272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1. Selección de los maestros de la música colombiana que representarán a cada región del paí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2272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 u="sng">
                <a:solidFill>
                  <a:srgbClr val="000000"/>
                </a:solidFill>
                <a:uFillTx/>
                <a:latin typeface="Arial"/>
              </a:rPr>
              <a:t>TÁCT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2272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Votación masiva a través de las páginas web del Ministerio de Cultura, ElTiempo, ADN a nivel regional, Quiubo (periódico popular a nivel nacional) y RCN tv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2272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Al final de la votación, el diario El Tiempo hará un especial (en el impreso y multimedia) con los maestros seleccionados y RCN tv hará una serie de crónicas en el noticier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2272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Mensajes de expectativa a través de los medios de comunicación (teléfonos rosa, turmequé, confidenciales, pastillas informativas en revist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5 Imagen" descr="160x600 banner.JPG"/>
          <p:cNvPicPr/>
          <p:nvPr/>
        </p:nvPicPr>
        <p:blipFill>
          <a:blip r:embed="rId1"/>
          <a:stretch/>
        </p:blipFill>
        <p:spPr>
          <a:xfrm>
            <a:off x="7620120" y="357120"/>
            <a:ext cx="15238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115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FASE 2</a:t>
            </a:r>
            <a:br>
              <a:rPr sz="2800"/>
            </a:b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OBJETIVO: LANZAMIENTO</a:t>
            </a:r>
            <a:br>
              <a:rPr sz="2800"/>
            </a:b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Duración: mes de abril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28760" y="1142640"/>
            <a:ext cx="711504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46404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6404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6404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3. Rueda de prensa en Casa de Nariño 14 DE ABRIL– invitación a todos los municipios a que participen. Se muestra el video del GCN 2008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6404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6404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* Después de Semana Santa – tercera semana de abr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6404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* Con presencia de todos los maestros seleccionados y los músicos ‘figuras’ 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6404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los diferentes géneros – mismo formato del año pasado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6404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6404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4. Grabación del gingle del GCN- todos los músic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6404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Se hará en un estudio y se convocará a toda la pren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6404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Fecha: segunda semana de ma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6404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6404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5. Grabación del comercial de televisión con los músic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6404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Se convocará a toda la pren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6404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Fecha: por definir con La Est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6404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6404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6. ESTRATEGIA DIGITAL – REDES SOCI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6404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64040" indent="-464040" algn="just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Presentación Micrositio del GCN – (a cargo de Daniel Restrep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64040" indent="-464040" algn="just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Redes sociales – estrategia conjunta con las organizaciones de Facebook de la marcha del 4 de febrero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6404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64040" indent="-464040" algn="just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A través de la página del GCN se va a hacer un concurso para escoger el cantante o grupo desconocido que va a ganarse un lugar para tocar en la plaza principal (sea Bogotá o Pore). Esta estrategia se va a hacer en alianza con Caracol radio o RCN radio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6404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6404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5 Imagen" descr="160x600 banner.JPG"/>
          <p:cNvPicPr/>
          <p:nvPr/>
        </p:nvPicPr>
        <p:blipFill>
          <a:blip r:embed="rId1"/>
          <a:stretch/>
        </p:blipFill>
        <p:spPr>
          <a:xfrm>
            <a:off x="7620120" y="357120"/>
            <a:ext cx="15238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115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FASE 3</a:t>
            </a:r>
            <a:br>
              <a:rPr sz="2800"/>
            </a:b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OBJETIVO: INFORMATIVA</a:t>
            </a:r>
            <a:br>
              <a:rPr sz="2800"/>
            </a:b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DURACIÓN: MES DE MAYO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28760" y="1356840"/>
            <a:ext cx="711504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852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85280" indent="-485280" algn="just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ESTRATEGIA INFORMATI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852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852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-     Se anuncian los municipios que se han sumado a la iniciativa- Empieza conte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852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85280" indent="-485280" algn="just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Se anuncia toda la parrilla en las diferentes ciudades. Se dice quien va a estar en dónde y se empieza una estrategia regional con los cantante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852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85280" indent="-485280" algn="just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Se envía dossier de prensa con toda la información a medios nacionale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85280" indent="-485280" algn="just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Se saca un cd del GCN con un solo track para entregar a medios y como estrategia de la  quinta fas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852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85280" indent="-485280" algn="just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Se coordinan los especiales con las revistas y diarios nacionales y regionales. (Apoyo de Iván Benavidez para hacer ronda de medio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852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85280" indent="-485280" algn="just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Especial con Señal Colombia – ¿Cómo suena Colombia? Recorrido por las 5 regiones del paí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852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85280" indent="-485280" algn="just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Especial con Caracol Radio- El Espectador  y Caracol TV. Las mejores  canciones colombianas de todos los tiempos (por décad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852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85280" indent="-485280" algn="just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Empiezan las agendas de medios con los maestros, los músicos que van a participar y los voceros del Ministerio en el tema artístico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85280" indent="-485280" algn="just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Minist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85280" indent="-485280" algn="just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Iván Benavide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85280" indent="-485280" algn="just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María Isabel Tolosa o el maestro Mantil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852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852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85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852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85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5 Imagen" descr="160x600 banner.JPG"/>
          <p:cNvPicPr/>
          <p:nvPr/>
        </p:nvPicPr>
        <p:blipFill>
          <a:blip r:embed="rId1"/>
          <a:stretch/>
        </p:blipFill>
        <p:spPr>
          <a:xfrm>
            <a:off x="7620120" y="357120"/>
            <a:ext cx="15238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168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FASE 4</a:t>
            </a:r>
            <a:br>
              <a:rPr sz="2800"/>
            </a:b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OBJETIVO: POSICIONAMIENTO</a:t>
            </a:r>
            <a:br>
              <a:rPr sz="2800"/>
            </a:b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Duración: JUN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28760" y="85716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 partir del 1 de junio salen al aire las primeras referencias de cuñas de radio por las cadenas RCN y Caracol a nivel nacional (alianza comercia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e van a grabar 5 referencias en radio. Una general y una por cada ciudad principal anunciando los artistas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 partir del 15 de junio salen los comerciales de televisión al aire en RCN, Caracol y en los canales regionales que hacen parte de la alianza (Teleantioquia, Telemedellín, Telepacífico, Telecaribe, Teleislas, Telecafé, TRO, Canal Capital, City TV, Canal 1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Se hace alianza con Cine Colombia para pasar el comercial en todas las salas de cine del paí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ugerencia para los comerciales: buscar un patrocinador para entregar MATERIAL POP como elemento motivador. Se entregan a través de la radio, la t.v. y la prensa.  CAMISETA, BANDERA, ESPEJO, ETC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Se pone la publicidad en las calles. Eucoles, Pendones en postes, manteles en restaurantes, free cards, exposición de foto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6 Imagen" descr="propuesta 1.jpg"/>
          <p:cNvPicPr/>
          <p:nvPr/>
        </p:nvPicPr>
        <p:blipFill>
          <a:blip r:embed="rId1"/>
          <a:stretch/>
        </p:blipFill>
        <p:spPr>
          <a:xfrm>
            <a:off x="0" y="5572080"/>
            <a:ext cx="914400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FASE 5</a:t>
            </a:r>
            <a:br>
              <a:rPr sz="2800"/>
            </a:b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OBJETIVO: IMPACTO </a:t>
            </a:r>
            <a:br>
              <a:rPr sz="2800"/>
            </a:b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Duración: desde el 1 de jul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1.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a primera semana de Julio se hacen los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anzamientos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en las ciudades escogidas.  Participan: Ministra de Cultura- Gobernador - Alcalde de la ciudad - Secretario de Cultura- artistas y un grupo del PNM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genda de medios con voceros en las ciudad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1. Vocera principal: Ministra de Cultu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lla debe acompañar todas las ruedas de prensa. Explicar el concepto de la curaduría e invitar a las familias a participar en esta gran movilizació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3. Vocero de la ciudad: Secretario de cultura o Alcal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Los tres últimos fines de semana salen avisos de prensa en los medios impresos (revistas y peripódicos regionales) Sería ideal que se lograra sacar la separata unificada para todos los medios con todo el contenido del GC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Free press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n emisoras, programas de t.v., diarios y revistas de todo el país sobre la logística del evento, lugares de concentración, precauciones durante la movilización. Todo lo referente a logístic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Vocero: Andrés Felipe Silva – La Estació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7168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ESTRATEGIA INTERNA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28760" y="85716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1.  Contacto con oficinas de prensa de Embajadas a través de Cancillería. (una persona de prensa va a estar dedicada a mirar esta estrategi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Ruedas de prensa en paí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2.   Alianza con Proexport para traer medios internacionales a algunas ciudades de Bogotá para cubrimient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3. Alianza con el boreau de Bogotá para traer medios internacionales para cubrimient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4.  Estrategia de redes sociales con los grupos de Faceboo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6 Imagen" descr="propuesta 1.jpg"/>
          <p:cNvPicPr/>
          <p:nvPr/>
        </p:nvPicPr>
        <p:blipFill>
          <a:blip r:embed="rId1"/>
          <a:stretch/>
        </p:blipFill>
        <p:spPr>
          <a:xfrm>
            <a:off x="0" y="5572080"/>
            <a:ext cx="914400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MODELO CON RCN RADIO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7858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1.  Grabación de 6 referencias de cuñas (una sombrilla y cinco locales) Nos prestan el estudio. Nosotros ponemos el locutor. La idea es musicalizar con los grupos de cada ciuda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auta Nacional: La F.M.- Básica RCN- La Mega – Rumb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auta Local Bogotá: La Mega – Rumba – La F.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autal Medellín: Radio Cristal- Radio Uno- Amor Estére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auta Cali: El Sol- Amor Estéreo- Radio U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auta Barranquilla: Radio Uno- La Me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2.   A partir del 15 de mayo al 20 de julio: pauta local y na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3.   Se trabajan las tres etapas de la estrategia en free p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4. Se acuerda una sección en los noticieros locales para crónicas sobre los procesos del PNMC en cada región. La idea es mostrar las mejores escuelas del Pla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5. Hacen cubrimiento en directo desde las cinco ciudades el 2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e juli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5 Imagen" descr="160x600 banner.JPG"/>
          <p:cNvPicPr/>
          <p:nvPr/>
        </p:nvPicPr>
        <p:blipFill>
          <a:blip r:embed="rId1"/>
          <a:stretch/>
        </p:blipFill>
        <p:spPr>
          <a:xfrm>
            <a:off x="7620120" y="642960"/>
            <a:ext cx="15238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7:41:09Z</dcterms:created>
  <dc:creator>User</dc:creator>
  <dc:description/>
  <dc:language>en-US</dc:language>
  <cp:lastModifiedBy>User</cp:lastModifiedBy>
  <dcterms:modified xsi:type="dcterms:W3CDTF">2011-10-18T01:48:52Z</dcterms:modified>
  <cp:revision>67</cp:revision>
  <dc:subject/>
  <dc:title>ESTRATEGIA DE DIFUSIÓN GRAN CONCIERTO NACIONAL JULIO 20 DE 2008</dc:title>
</cp:coreProperties>
</file>